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E55-EC96-4238-971A-16A19911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DA2-B412-448B-9F84-46FD187D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75D49-8BCD-468C-92A2-678C6797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CBBDA-B55C-420A-A22F-EF4496AE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60491-3435-469A-8538-237F33E7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D7D79-45D4-4536-A4AB-67E8F81B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3305F-4CFF-41E5-B0CD-69FF9F48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93F21-B61A-4034-B4A5-BC460A98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35A3F-E066-4E05-9DAC-CAF81668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574F2-BF9A-4744-944A-360B57AB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0EA8C-4329-48A7-A537-F1A83903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936FB-F192-4820-AC9A-20450250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71D-338C-4931-8689-F9586BBF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AEEB4-F679-43B7-8354-EB3A225F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B97DC-4EF9-4035-8839-D6F37FC3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65C73-17A1-4E42-90C2-8F938D70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7B545-5E11-4C0A-9EF7-EC19E6FC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8F283-791A-43E2-8F9D-9263CC4F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F43E9-9E2F-477C-A806-AF4FC09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9C443-7B99-43A2-94B1-48DC1D4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9BD79-1348-4D14-A050-99C21A7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49C21-9A7F-47AF-81A5-22D2EB6A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E81BB-25BB-4975-B53E-2BFC168B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7AD-B5A6-406E-BC57-55590B2A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B84FD-1EEF-4248-8A3D-503938BA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3301E-5060-4D54-821E-CBC9200E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22AC9-C92C-4AC9-86F5-10F973FA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E2963-7285-45D1-AE7F-E6E4F1F8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DE39B-A5DB-4EC2-A84C-0BC75939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845A8-0823-4548-8A9B-763DE8B3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B1D7B-CD8B-4C0D-ACA4-0F1123C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9B544-EEF5-493E-BAE7-9DA72325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4AF89-08F7-4AEF-AD21-D406B77E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9C1A8-506B-460F-996A-61A04653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11D5-B29D-47F1-AC9F-F2041A30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191A2-6780-4DC2-9F14-A61E5570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94912-06F6-4D64-9F86-DC7E1698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EE3CF-E016-4705-B21A-191AB795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45520-51B4-4208-A64C-5A7FF9B2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16BF7-37F7-42B3-A41B-255A148C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29153-5786-4D3C-B426-19E6DF47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1B1BE-6B39-4978-B1E4-916AE026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F2E34-E4F3-42E0-8B18-79BBA096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C6B13-E944-4F6A-BCB4-A4E75188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0F442-5E90-4FA1-A8BB-8FF0B1E8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386C-FE40-429C-9A0A-FCBD7593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E773F-C1F6-4BB5-B1E2-8F91F23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A4514-E7E3-4F27-A5BE-21F4F1EE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E7471-4315-4D44-BA3D-64C1330F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21EB2-3BED-41B3-9BA5-9D1C0110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0DA6A-8091-417D-BFBC-DA0FBF19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9C579-4D31-4127-A246-51C016A0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14167-EE97-4161-837E-969E08D9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5C9DC-10E9-4F08-B6C7-619865E9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B376F-55F4-4221-8CA7-0D3DDC2E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DAAB7-C101-4967-AA41-69E0A293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41C4-144C-4EF1-A7D4-65D81096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45515-7E02-44B0-95A0-081F5E86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49A0B-CD01-4D01-9166-DFDAC2AF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419AE-95B5-410E-8317-FEF16579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BF607-B6D1-4459-8089-9CDFE768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555FF-D37A-4004-8DD8-E914664E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5D72D-8C85-44F1-9940-6F7BD2FB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1DB8C-E7B3-4A90-9A58-362C54DB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9C2C5-4C56-4195-B14F-86CC6899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DFF44-DC4B-4826-8BFE-F9969181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F41B8-A903-498A-BE3D-6305D795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07B5-B225-4060-BB29-B0704171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2FADC-BEFE-4A75-94FD-9B7D69B4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443A2-6B55-4E06-90F9-2A5C142D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BCC73-426D-42C7-8603-430F34C3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C0AC9-450D-416F-9C0A-502F570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0A17B-856B-4A78-AB3F-7E7EF2C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C038F-89CB-44F4-BE0A-AB48AE9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0F973-1043-48FB-9207-F4F4C1D3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153BF-98AC-4299-A56D-0EA04818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7082C-CE8E-46E3-85A6-18C173A0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B7688-C30F-4995-90AC-EDB92BFF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ADFC-D17A-41DA-97DA-4D81ABA4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476E5-49F3-4714-9C67-D25B5C88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8C3EE-042C-44AD-8924-64603CB5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049E7-9292-4EDB-9690-35DD8D47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AA7C2-6DA1-43CF-96E7-8A2A10AE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32589A-EB63-4B84-ABC2-FD1B6FF5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03435-2F0C-445C-AB32-00BB6D5B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009F6-FE04-491F-823D-F17CEDC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7B0AA-3D1D-469F-9173-ACD6A6C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702021-31F2-4ED3-8986-2732E27A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FFB8D-61E4-4B14-BAE5-E790113E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F12E-15DB-40DA-A092-BE1F4964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906D6-115A-460C-A3E1-3A139FE3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1C2AE-9725-40F7-B01C-24B874DB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A7CFC8-CFB2-4080-A835-4A22037F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FFC98-F031-4CC7-BF39-5ABF3D38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06B4A-6C50-4080-BADD-68C9BA9A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3721F-838F-429F-8718-3D94FDE6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D9607-6F4E-452F-A12F-DF201105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EB744-BB0C-497B-BEED-9C5CC3F2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D7F7A4-34A6-4872-83F5-A03BA26B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7CB22-A764-4DDA-84E7-4929D3AD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253B-ACE1-4EC7-BC29-06CC59C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2318E-51D7-4D8B-BBA5-012FA980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CB2D81-77E9-4D05-A070-0CB21645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2CF27-141B-4F1C-8FAC-FDBBE70B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B86D7-2911-4CCD-8B67-7D1C06AD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CBE1B-C78E-4ED6-8389-F05E036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02699-A86C-4EF0-9049-D460C0CF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6D8A9-A666-43F2-B8BE-334EDA81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C2121-25B9-40FA-9D87-FF8D05EC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90C79-982A-46A5-8188-B4918856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A16BB2-8DFB-41A2-880F-E925638B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9DC-90CB-49E5-9A24-8FC8C4A6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5BE3-8183-4D1D-81BF-F59C4796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747A70-E732-4DD5-A89D-946993A9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C52F79-2881-4708-820D-FFDB313B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E4268-F79F-49B3-AD57-62AE7874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7C369-E03E-44E3-BD6B-10A705EC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E8A2A4-38E7-4B38-9231-08842FCF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E00EC-31A3-45F3-9EC4-5F701ADA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6D20DA-4409-45C1-ABBE-2BA44FC4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64136-018C-4BA8-B377-1821FAE2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C646B-B868-4309-8F8D-C092F44E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682587-64EE-400D-B00B-D56FEF33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627A-E248-4CD8-8D04-08C91AFA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CA348-2069-4C28-B826-86B7ABFC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10E5A9-08E4-4E88-8B52-C6934F75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3EF43C-B8AE-4879-8751-62963924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11907B-73A0-44A6-B79F-2073B448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697FB-A12B-4938-AFA9-498C4E67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495EB-76D8-4D9F-9603-2A455CF5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7875E1-BB98-4906-AC5A-3C2B630F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7154B-EAB3-4602-862C-BCFD7715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A1C81-AD82-4141-9B0A-7768740C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321F6-D973-44C0-A0BE-B827D5E9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6CFE-28BD-4DEE-9C37-E6BFB020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DDE228-4BE7-48D7-9488-B9E7F585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4B036-ADE5-422C-BB4C-BFFD5471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1B812C-779D-4B01-9CE0-056008EE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25DDF-E56E-410D-94E6-21387124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FA9F20-9D90-4838-8B71-D6F241C3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8762D7-9240-49BE-9A89-3B2ADD04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AD740D-619C-4A46-B4B8-28474DAF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19834-CBED-40C4-BBEA-6D2115C1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D6000-4639-47CE-8176-F14366EE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681550-3EEE-4129-B9EB-5D24992D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DF4D-4690-488A-8197-E7253E12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C3ECF-FBC0-4490-8CE3-7C53D19B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85B41-0A35-4E29-8320-0AB12405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65878-9C0E-41BA-9E0B-24DD6925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B07D81-1507-4277-ACC8-D70F6D62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14EB0-6D5E-4AB2-8236-5F09A972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2C98D4-6807-468D-AD24-244B9F86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7C47D5-5297-48ED-B1DA-0C30F02C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16877-9390-4E71-A392-9DE3762A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F1608-7F1F-46BF-A6F4-AD0D553D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7EB013-5E39-44A6-935A-8303295B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A3BB-7D00-4098-98DA-8CA25101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8377A-E80D-4D42-AB0D-DCE08DC1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061720-A974-4968-82E1-0D01B915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0E772-2083-4023-96FB-C436A183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8E60D2-8905-43DF-8F50-90A8D6D1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238C3C-3D93-4FB9-AE13-3E371D01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76A579-7B85-4E33-BE37-9C6BC059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288FBB-7CDA-4F6D-8B51-431E67AE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B9FB9C-29EF-4F2E-BACE-EB5068D5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62EA12-9465-43A7-89A7-550D1EED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71D1D5-9754-470A-B0A2-F8D16629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4D2F8-5428-46BA-B2FE-DCE5B56E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7CAE5-F94E-4F26-849B-8CE4E897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8CEE0A-5A3D-4E73-8323-95599A9A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E84ADF-D8CD-45CE-8F25-BC1989A2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5942E-7820-42C6-9684-3298E2D9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872F-7AF3-4EBA-BA72-F132B2D2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388E-2275-4424-A7C4-787275B2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ED3E4-0991-4AC7-8792-B1290D6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58A-4AF8-46D1-8BBD-5B4B93EF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CEEA-B857-495F-BDFC-F48D1035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503B-B668-498E-93FC-1E0DB5AC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ADA7F-774B-40EE-BB03-D3A2EFEA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958D-1F7A-414E-8F63-4C295F2B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F0B0-1CC8-44C9-9A94-EA4FC662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D1E7-8973-4B0F-8D60-C8C4A29C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5E79-318D-4A1F-9521-0BEAFE6F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AF5CC-E40F-4EEA-B7C5-4D8C826D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C1C26-6FEE-408E-98C5-8C6B2000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19B36-2389-4515-B1AF-085326A8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F0B-1487-41F0-8BED-CB1AAE1D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74674-AE54-4F5C-AC67-A125FF7F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795DD-D991-4926-A27C-06A1A951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95B94-72E3-4379-B5DB-1B00FAA3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082D2-6648-4546-AA1F-CE5D03FF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C6E46-C880-4775-A140-DF8E65D5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848AB-9B48-45E9-8410-A8924774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A633D-1409-4C01-89FB-EB1AA89B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D86B-3B08-44DF-9437-110A930F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9B02C-647A-4F0E-AF63-494A4E72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98F0E-F80A-4002-8902-37123FB5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3FB-2676-4396-B861-DBA77129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FDACF-06CF-402D-B0B8-71E396EB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FA8AA-91AD-4C1C-8113-401C5740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45F79-408B-4B52-BA05-ACD0D3B3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C25A0-2982-4986-B332-D72B6504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FAA0-D58C-4AD0-8F45-EB504702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FD1D-B640-4D74-8DEA-67B1D057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7CCD-70E9-4391-ADBE-CA09CE1E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E23C1-EA8F-47D8-B5BF-BC1717D3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63C91-A56F-40FA-B96D-BD119EE8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FA877-8470-4914-B03B-25B3FC26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33E-7822-4561-9600-92E1B000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A5CFA-E24F-4136-A8F5-E9FBE9DD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7EF33-83DA-48D1-9A5C-1D85FF9A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F84D4-8E15-448C-A3D8-577B4E89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8FAAB-709F-44A4-8A9B-CAF02540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B315B-B621-4DC4-B46F-7E096F4E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C5DF1-D4D3-4412-967E-03051B91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49ADC-5AF9-4E42-9A10-F102CC90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F627D-65FC-4E48-B64C-6A63D54D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FD0C-38B0-4E6B-95F6-8FD724F9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C96FA-9AF1-4B0D-AEC6-457CC2F4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0A5-C308-4D1E-A783-F2414D9E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81D02-FF42-4B33-B7F1-10179817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FDAA3-A10B-4DAA-AA82-F91BD42E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19100-D43F-4AC7-8848-85AC3A57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3A978-A0C0-47D8-9F5D-3F8D94C0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3B752-C48D-4A39-A087-4953D7C8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1E631-0D5E-4B61-94AF-3DBB6C09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EF13B-B181-40DD-82EA-2038D6FE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5F9A1-DA23-4040-BB3D-FDB3E5F4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D3BB1-5FB2-4856-A6F7-95985EF1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731C1-05AC-443B-859B-A0302E3A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86B-A8E1-4BEB-86EC-D2DD2EEF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CD57D-6125-4317-88CA-05580810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27DC2-CC78-45E0-8A3D-097FF91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684C0-2DB8-417B-84C0-B08A9406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A2A4-0CEC-4CD7-9C97-92B06FB7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F4579-3B7F-4DBD-A2FB-6EADECDB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61D0F-65F8-4FBC-9065-DCEC7F17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13D8C-A8DB-42D9-BA0B-09102446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0E7C9-68C0-4A46-AE5E-FE931AC7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2970F-F00B-4841-B381-3A41EA9D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50ED0-7B04-49CB-B460-8E48083E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000-EACC-4669-B5D4-732F9DF2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13643-CF75-4BA6-A060-412CD788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C5D7D-9E93-4ADF-ACF9-8D56D19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0BD45-7B65-4DB2-800F-EDBEAB5B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96B34-1340-4A41-959F-5C1A3B3C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1ACB6-FCD2-49B3-9394-7E2B530D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EBC94-0E96-47F4-8343-0CDAAA18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83D10-B36A-4851-9C9B-F848443F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3809A-58CC-4164-B751-04C0CFB0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1E555-016D-4ADF-8921-A3A14E98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854E2-9507-4A2F-BE2D-4129AE5A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D52C-F4E2-41C4-B8FD-423EF0FDB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0CCF-51B0-4330-ADC1-B24E2092C9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BBC7-23B9-4711-BB32-E5D4C67339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36F9-42E2-4077-AA94-1E19C920E2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E8F8-D928-49FF-8D43-8E14E7758A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FC4F-3D28-4EB8-ABAD-15EB24A5B6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6856-649A-4822-BC6B-A004BD1E5C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7368-9603-4E2A-A914-5A2ED422DA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EF01-201D-48ED-A100-2C93002D49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7550-424C-40D0-AF62-0D668F96FA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557B-DFA1-4129-92B0-A304F53E2A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5992-4E98-459A-8250-AA744FA3F0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DC3F-7A92-4006-8974-0B559D06F0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12BC-04A6-4D34-A3B9-11908E36C2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6075-80EF-4A37-877E-206F97C02B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2C8E-3AD6-4079-A465-39DC1F8671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8255-AC6B-4710-A07B-3F12CB3888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4F00-44D3-4C09-8DFE-8CB60CA6AC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E83C-8A7F-428E-AE36-30746CEB41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0A56-921F-40BF-ACE5-3AB12265D2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D69-DBBD-402F-AB71-D4E51AC10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CCFE-53CC-40E1-A02E-DB7DA09B89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1BFA-2A39-4778-8942-756A34D060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99FF-FA93-47F8-B76A-E768399033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40CB-71BF-4A68-BC20-57BF7C2708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23DC-1FE8-49DD-A42A-A0A74FEE3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3DFC-2925-4FEB-A033-9E1D038D4D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A654-7DDE-4F04-8A1A-53D34C00A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2426-7A80-4FCE-AE59-4DAE43E59D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1ADA-0731-4C62-8D56-5BA8914DC5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C1E9-DF28-48CB-9275-1BDFADAF1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24A9-8379-4119-8FC0-E077D0358E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E11C-2530-4D2C-8719-56FB8A4C8D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6827-061D-4E51-9D3F-BFE938368E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488A-E35D-4C90-8AAE-F2563F6ED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ED84-7CBE-44D9-8F69-C170145C90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C475-8205-4C94-8AFC-5024511682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13E2-0398-4D42-9EC8-09BF8549C1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AE5F-FC88-4D49-8B92-FA101736F2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FB6B-31FB-496A-B007-A70359C1BB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238480" y="3138480"/>
            <a:ext cx="46670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449280" y="961920"/>
            <a:ext cx="8467560" cy="981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2"/>
          <a:stretch/>
        </p:blipFill>
        <p:spPr>
          <a:xfrm>
            <a:off x="285840" y="1440000"/>
            <a:ext cx="8775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324000" y="873000"/>
            <a:ext cx="84960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99880" y="906480"/>
            <a:ext cx="85442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538200" y="914400"/>
            <a:ext cx="8067600" cy="5819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2"/>
          <a:stretch/>
        </p:blipFill>
        <p:spPr>
          <a:xfrm>
            <a:off x="885960" y="8366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3"/>
          <a:stretch/>
        </p:blipFill>
        <p:spPr>
          <a:xfrm>
            <a:off x="885960" y="171468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4"/>
          <a:stretch/>
        </p:blipFill>
        <p:spPr>
          <a:xfrm>
            <a:off x="885960" y="25718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5"/>
          <a:stretch/>
        </p:blipFill>
        <p:spPr>
          <a:xfrm>
            <a:off x="885960" y="33559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6"/>
          <a:stretch/>
        </p:blipFill>
        <p:spPr>
          <a:xfrm>
            <a:off x="885960" y="41623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7"/>
          <a:stretch/>
        </p:blipFill>
        <p:spPr>
          <a:xfrm>
            <a:off x="885960" y="499896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8"/>
          <a:stretch/>
        </p:blipFill>
        <p:spPr>
          <a:xfrm>
            <a:off x="885960" y="5856120"/>
            <a:ext cx="542880" cy="4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357120" y="876240"/>
            <a:ext cx="8429760" cy="57913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714240" y="83664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714240" y="164304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5"/>
          <a:stretch/>
        </p:blipFill>
        <p:spPr>
          <a:xfrm>
            <a:off x="714240" y="3733920"/>
            <a:ext cx="543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333360" y="1366920"/>
            <a:ext cx="8477280" cy="46576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642960" y="3814920"/>
            <a:ext cx="5428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352440" y="911160"/>
            <a:ext cx="8439120" cy="57913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2"/>
          <a:stretch/>
        </p:blipFill>
        <p:spPr>
          <a:xfrm>
            <a:off x="642960" y="846000"/>
            <a:ext cx="542880" cy="4320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3"/>
          <a:stretch/>
        </p:blipFill>
        <p:spPr>
          <a:xfrm>
            <a:off x="642960" y="5386320"/>
            <a:ext cx="542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2" descr=""/>
          <p:cNvPicPr/>
          <p:nvPr/>
        </p:nvPicPr>
        <p:blipFill>
          <a:blip r:embed="rId1"/>
          <a:stretch/>
        </p:blipFill>
        <p:spPr>
          <a:xfrm>
            <a:off x="295200" y="865080"/>
            <a:ext cx="8553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304920" y="808200"/>
            <a:ext cx="8534160" cy="5810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2"/>
          <a:stretch/>
        </p:blipFill>
        <p:spPr>
          <a:xfrm>
            <a:off x="285840" y="261288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285840" y="362268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285840" y="563868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285840" y="6146640"/>
            <a:ext cx="8775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4:42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